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C0E3-C540-4F0C-B34D-4A9E37261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A7B7-2F16-48AA-8278-329DD60C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7D9E-C7A7-4571-A584-CE54729FA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AA72-2F19-4152-80B4-6CC780137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0FF65-35D2-4451-A935-2D4EFD1FA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EE11-A1E8-4B10-A59C-DBA4E50D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DE8C-44BD-4E82-AB6F-CB93267D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DE8D2-81D5-4AF0-BEBD-E50A1858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140B-D362-4BDF-91A5-E85988FB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9A975-22BC-440B-8224-8F1596A6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340C-4BCD-4792-9459-7FCC889F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C22F-DFBE-4033-8F28-75B445BF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4728-E359-4222-8070-D56FC95B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F2136-F968-4096-82B8-8918F96F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A963-0C6D-4255-9724-9905C518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B49A9-4867-4F3D-9651-064BF3D56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F257-5BCD-4235-A5C7-9D687BC94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0019-E6D7-4847-B9D5-8C5DE19E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027B-F0C1-4F61-9CCA-F4000FC4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02C5-84A8-404A-8D8F-89E38DA8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35C4-6089-4F73-8C52-50ED6A80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D73D-8A04-49AE-AAD5-F0BE2767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AA8F-723B-4AB9-AB28-BCBC895E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3C6F-7ED7-4AB1-80FC-16E478D4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2827-9CBF-4915-8612-3EE7DEA5870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A54E-E102-497A-95E1-6BB743B8045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第十章  国际资本流动与国际金融市场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International capital flow &amp; International financial marke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Arial"/>
              </a:rPr>
              <a:t>第三节  离岸金融市场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、离岸金融市场的概念与类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概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类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二、离岸金融市场的形成与发展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三、离岸金融市场的特点和金融工具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离岸金融市场的特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离岸金融市场的金融工具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存款工具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贷款方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四、离岸金融市场对世界经济的影响及发展趋势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离岸金融市场对世界经济的影响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离岸金融市场发展趋势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第一节  国际资本流动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一、国际资本流动的含义与类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一）国际资本流动的含义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含义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考察国际资本流动可以从五个方面入手：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从资本流动方向来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从资本流动规模来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从资本流动的类型来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从资本流动性质来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从资本流动方式来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（二）国际资本流动的类型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长期资本流动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）直接投资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）间接投资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）国际借贷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短期资本流动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）贸易资金流动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）银行资金流动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）保值性资本流动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）投机性资本流动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二、国际资本流动理论 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一）关于国际资本流动原因的理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完全竞争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产品生命周期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生产的内在化理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生产的折中理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垄断优势理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二）关于国际资本流动的效果与影响的理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般理论模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双缺口理论模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雷布金斯基原理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第二节  国际金融市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一、国际金融市场概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一）国际金融市场概念与类型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国际金融市场概念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国际金融市场类型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传统的国际金融市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新型的国际金融市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二）国际金融市场形成的条件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国际金融市场所在地必须有较为稳定的经济和政治环境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国际金融市场需要有宽松的金融政策与优惠措施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国际金融市场需要有完善的金融市场结构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国际金融市场需要具备良好的地理条件、拥有完善的国际通讯设施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三）国际金融市场的形成与发展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伦敦金融市场的形成与衰落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纽约金融市场兴起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离岸金融市场的形成与发展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Arial"/>
              </a:rPr>
              <a:t>二、货币市场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一）定义：期限在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年以内的短期资金借贷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二）货币市场的分类（按照资金融通形式）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银行短期信贷市场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短期证券市场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国库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可转让银行定期存单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银行承兑汇票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商业票据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贴现市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三、资本市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一）定义：期限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年以上的长期资金市场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二）资本市场分类（按照贷款方式的不同）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银行中长期贷款市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中期贷款：国际惯例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-5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年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长期贷款：国际惯例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年以上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中长期贷款运作方式（见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130-131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证券市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政府债券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企业证券（公司债券、公司股票）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四、外汇市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一）外汇市场综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外汇市场定义： 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广义的外汇市场；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狭义的外汇市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外汇市场的形式（从交易情况划分）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无固定交易场所的外汇市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有固定交易场所的外汇市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二）外汇市场的组成机构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外汇银行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外汇经纪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中央银行等政府管汇机构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其他，如跨国公司、投机商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三）世界主要外汇市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伦敦外汇市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纽约外汇市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苏黎世外汇市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五、黄金市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一）黄金市场简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五大黄金交易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黄金市场种类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按照交割期限划分：现货交易市场和期货交易市场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按照管制程度划分：自由交易市场和限制交易市场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二）黄金市场的结构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三）黄金市场的交易方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现货交易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期货交易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四）世界主要黄金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伦敦，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苏黎世，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香港，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新加坡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4T02:50:17Z</dcterms:created>
  <dc:creator>MS User</dc:creator>
  <dc:description/>
  <dc:language>en-US</dc:language>
  <cp:lastModifiedBy>Dell</cp:lastModifiedBy>
  <dcterms:modified xsi:type="dcterms:W3CDTF">2021-08-23T22:46:23Z</dcterms:modified>
  <cp:revision>17</cp:revision>
  <dc:subject/>
  <dc:title>第四章  国际资本流动与国际金融市场</dc:title>
</cp:coreProperties>
</file>